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9FB9-75F5-49BD-9271-977CED06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B94-F8C8-41C8-8FD9-4B9F24FA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D3B-F1C3-4208-B324-487DC63C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B4F-20BC-48A8-873B-6AD13FBA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7532-9385-4BF9-87BC-D81E4E611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D60-442F-4E70-8887-35E106ED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DA5-9BB9-4FFA-BCFB-25075324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8EC-1EB8-487B-B4FE-BAB872D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8F9-1580-4498-A977-3C45072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592-256C-430E-AFBC-00177966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20D-7CA7-43E8-AEC6-3F21945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72E-4D21-4BEB-A62A-8BE6FE3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301-731E-4478-BBBE-10E59F5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595-EF20-4051-9159-392BD2C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224-8296-4805-9D9A-90709159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149-2DB1-4EDF-8987-4FCB02A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311-5BEA-4C36-B133-60E0F8D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059-70D9-4C7A-A252-B35F373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0E8-A465-4200-AF61-84AE9E9B4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Water Cycle and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and water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ycle Process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6" name="Picture 4" descr="FIGURESCIRCACTIVITY.png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57200" y="6248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EDIT and add in ocean to this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0-12-21T19:57:48Z</dcterms:modified>
  <cp:revision>305</cp:revision>
  <dc:subject/>
  <dc:title>PowerPoint Presentation</dc:title>
</cp:coreProperties>
</file>